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C984-E255-4103-8E45-D6A1FDDB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877-7EA6-4780-B693-F20108FF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072-CAF3-4039-9C0F-E130A21F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3265-4765-465A-9906-C8284DD4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34F0-D00D-4FFA-A85B-D4CB1789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E410-B54F-4F78-BEBF-CD4AE350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39E0-0CBE-4D14-A849-227B74C2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1C5C-E205-4428-8AFE-097D9BD1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F228-64E2-4EEF-93D6-95CB292B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4579-DEE7-42E7-A8D7-8200CEF2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EE4B-B0C0-4F9B-8C72-515CFD56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444-8D9D-464D-959E-38D16ECE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73DD-61C7-4F0F-9B7F-E72B09EB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4F07-ED9A-43F8-9619-66C83BE8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B32F-C7F0-404A-9BBC-8AF888B9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2622-0AB5-4810-A5BE-F65FD07C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6984-AA62-428C-958B-86FFD8A6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728-9953-4E7C-884A-AF49C744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473-E499-457B-9FE3-D9CABCBC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BCA-D144-4987-93DB-1DCE5D37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AB6-3FE3-4029-8CD3-B65AAEE4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913B-8503-4EB9-B46E-4190E471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DBF0-34C9-40FB-95EE-EE167677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D47-0681-4329-BBF2-DEF4B063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347E-4561-449A-8D1A-2F47BB09F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FFEB-06CC-4DC4-A1BF-1D6E7F6AE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auren Pursel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inde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indeer live in the north pole near Santa and his elves!!! I sure hope they have been good this year or here comes the co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reindeer" descr=""/>
          <p:cNvPicPr/>
          <p:nvPr/>
        </p:nvPicPr>
        <p:blipFill>
          <a:blip r:embed="rId1"/>
          <a:stretch/>
        </p:blipFill>
        <p:spPr>
          <a:xfrm>
            <a:off x="4648320" y="4267080"/>
            <a:ext cx="4495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bunny" descr=""/>
          <p:cNvPicPr/>
          <p:nvPr/>
        </p:nvPicPr>
        <p:blipFill>
          <a:blip r:embed="rId1"/>
          <a:stretch/>
        </p:blipFill>
        <p:spPr>
          <a:xfrm>
            <a:off x="0" y="1447920"/>
            <a:ext cx="9220320" cy="5410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0" y="-152280"/>
            <a:ext cx="8958240" cy="159048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Bunni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5638680"/>
            <a:ext cx="1371600" cy="121932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257800"/>
            <a:ext cx="1295640" cy="1600200"/>
          </a:xfrm>
          <a:prstGeom prst="irregularSeal2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"/>
          <p:cNvCxnSpPr>
            <a:endCxn id="95" idx="0"/>
          </p:cNvCxnSpPr>
          <p:nvPr/>
        </p:nvCxnSpPr>
        <p:spPr>
          <a:xfrm>
            <a:off x="4419360" y="1218960"/>
            <a:ext cx="19116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ro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21:27:48Z</dcterms:created>
  <dc:creator>jeff</dc:creator>
  <dc:description/>
  <dc:language>en-US</dc:language>
  <cp:lastModifiedBy>jeff</cp:lastModifiedBy>
  <dcterms:modified xsi:type="dcterms:W3CDTF">2008-11-23T20:12:58Z</dcterms:modified>
  <cp:revision>3</cp:revision>
  <dc:subject/>
  <dc:title>Animals</dc:title>
</cp:coreProperties>
</file>